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24.wmf" ContentType="image/x-wmf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E0DF-E574-4853-B088-ECBD3B8B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BA90-9148-4C08-B7AB-206D15EF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CDBD-745A-432E-9436-03B2A4F2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54EA-6362-47DE-B94C-6FC091F2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E141-FDDB-4719-8762-49D59E35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533-6DD9-4EE4-BE43-C112F640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E92-6F12-4DDF-8CED-7AA225FA1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575-2479-4C78-A5A3-53EC5C90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BC35-DE2E-4BAA-BE3A-F2C0DE2A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7A5-91F9-4266-B0F8-B86E8A0EC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E2AC-08E6-4989-B5A2-04AF19A2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4996-BF13-4CC1-8268-772862F1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EB43-E9F6-4D74-8469-8E5E7EFAF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62120" y="533520"/>
            <a:ext cx="777240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ff99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Ролята на бащата и майката</a:t>
            </a:r>
            <a:endParaRPr b="0" lang="en-US" sz="2400" spc="1" strike="noStrike">
              <a:ln w="9360">
                <a:solidFill>
                  <a:srgbClr val="00ff99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Мъжът като баща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CJE00128" descr=""/>
          <p:cNvPicPr/>
          <p:nvPr/>
        </p:nvPicPr>
        <p:blipFill>
          <a:blip r:embed="rId1"/>
          <a:stretch/>
        </p:blipFill>
        <p:spPr>
          <a:xfrm>
            <a:off x="3124080" y="4025880"/>
            <a:ext cx="301644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666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Бащата е образец на мъжко и съпружеско поведение за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своите деца.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CJE50049" descr=""/>
          <p:cNvPicPr/>
          <p:nvPr/>
        </p:nvPicPr>
        <p:blipFill>
          <a:blip r:embed="rId1"/>
          <a:stretch/>
        </p:blipFill>
        <p:spPr>
          <a:xfrm>
            <a:off x="6657840" y="3286080"/>
            <a:ext cx="2486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742840"/>
            <a:ext cx="853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Присъствието на бащата внася сигурност и стабилност в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емейството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CJE50106" descr=""/>
          <p:cNvPicPr/>
          <p:nvPr/>
        </p:nvPicPr>
        <p:blipFill>
          <a:blip r:embed="rId1"/>
          <a:stretch/>
        </p:blipFill>
        <p:spPr>
          <a:xfrm>
            <a:off x="5048280" y="4354560"/>
            <a:ext cx="409572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9677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ъжът–лидер в семейството: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ой ръководи членовете на семействот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пражнява “меко” лидерств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явява разбиране към съпругата си и към всички членове на семейството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JE50097" descr=""/>
          <p:cNvPicPr/>
          <p:nvPr/>
        </p:nvPicPr>
        <p:blipFill>
          <a:blip r:embed="rId1"/>
          <a:stretch/>
        </p:blipFill>
        <p:spPr>
          <a:xfrm>
            <a:off x="6365880" y="4000680"/>
            <a:ext cx="2778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28951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Взаимна любов и уважение трябва да се виждат в отношенията между родителите, ако т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скат техните деца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да притежават тези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ачества.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JE50004" descr=""/>
          <p:cNvPicPr/>
          <p:nvPr/>
        </p:nvPicPr>
        <p:blipFill>
          <a:blip r:embed="rId1"/>
          <a:stretch/>
        </p:blipFill>
        <p:spPr>
          <a:xfrm>
            <a:off x="6200640" y="3581280"/>
            <a:ext cx="294336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Мъжът трябва да отдели време за семейството си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JE50089" descr=""/>
          <p:cNvPicPr/>
          <p:nvPr/>
        </p:nvPicPr>
        <p:blipFill>
          <a:blip r:embed="rId1"/>
          <a:stretch/>
        </p:blipFill>
        <p:spPr>
          <a:xfrm>
            <a:off x="2819520" y="3581280"/>
            <a:ext cx="345600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Ролята на жената </a:t>
            </a:r>
            <a:br>
              <a:rPr sz="6600"/>
            </a:b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в семейството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CKP00056" descr=""/>
          <p:cNvPicPr/>
          <p:nvPr/>
        </p:nvPicPr>
        <p:blipFill>
          <a:blip r:embed="rId1"/>
          <a:stretch/>
        </p:blipFill>
        <p:spPr>
          <a:xfrm>
            <a:off x="380880" y="3976560"/>
            <a:ext cx="22212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Жената като съпруга: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123720" y="274320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я поставя съпруга си на първо място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ценява го и го уважава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дига авторитета му пред децата с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CJE50087" descr=""/>
          <p:cNvPicPr/>
          <p:nvPr/>
        </p:nvPicPr>
        <p:blipFill>
          <a:blip r:embed="rId1"/>
          <a:stretch/>
        </p:blipFill>
        <p:spPr>
          <a:xfrm>
            <a:off x="0" y="3527280"/>
            <a:ext cx="262404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92962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Жената като майка: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6477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йчинството е сериозно изпитание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Изисква се деликатност и умение в споделяне ролята на съпруга и майка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Майката е емоционална сигурност и подкрепа за своите деца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JE00247" descr=""/>
          <p:cNvPicPr/>
          <p:nvPr/>
        </p:nvPicPr>
        <p:blipFill>
          <a:blip r:embed="rId1"/>
          <a:stretch/>
        </p:blipFill>
        <p:spPr>
          <a:xfrm>
            <a:off x="6310440" y="4484520"/>
            <a:ext cx="283356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440" y="2819160"/>
            <a:ext cx="5791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Домът е първото училище за децата, а майката- първият им учител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JE50026" descr=""/>
          <p:cNvPicPr/>
          <p:nvPr/>
        </p:nvPicPr>
        <p:blipFill>
          <a:blip r:embed="rId1"/>
          <a:stretch/>
        </p:blipFill>
        <p:spPr>
          <a:xfrm>
            <a:off x="0" y="2095560"/>
            <a:ext cx="22766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10591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Реалността на семейния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живот е по-различна,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отколкото мечтите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за него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IY00213" descr=""/>
          <p:cNvPicPr/>
          <p:nvPr/>
        </p:nvPicPr>
        <p:blipFill>
          <a:blip r:embed="rId1"/>
          <a:stretch/>
        </p:blipFill>
        <p:spPr>
          <a:xfrm>
            <a:off x="4929120" y="4113360"/>
            <a:ext cx="4214880" cy="27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Майката- първи учител за децата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733920" y="2743200"/>
            <a:ext cx="5790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Давайте сигурна информация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ъдете авторитет за вашето дете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омагайте му да развива талантите и способностите с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AVR50011" descr=""/>
          <p:cNvPicPr/>
          <p:nvPr/>
        </p:nvPicPr>
        <p:blipFill>
          <a:blip r:embed="rId1"/>
          <a:stretch/>
        </p:blipFill>
        <p:spPr>
          <a:xfrm>
            <a:off x="0" y="3951360"/>
            <a:ext cx="32446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Майката- първи учител за децата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7432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Бъдете постоянна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Обяснете на детето, че то носи Божия образ и му помогнете да изяви този образ по най-добрия начин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UC50009" descr=""/>
          <p:cNvPicPr/>
          <p:nvPr/>
        </p:nvPicPr>
        <p:blipFill>
          <a:blip r:embed="rId1"/>
          <a:stretch/>
        </p:blipFill>
        <p:spPr>
          <a:xfrm>
            <a:off x="6310440" y="3502080"/>
            <a:ext cx="283356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ак да се държим с порастналите си деца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8640" y="34290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ключете ги активно в семейните дейност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ъобразявайте се с техните желания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JE00181" descr=""/>
          <p:cNvPicPr/>
          <p:nvPr/>
        </p:nvPicPr>
        <p:blipFill>
          <a:blip r:embed="rId1"/>
          <a:stretch/>
        </p:blipFill>
        <p:spPr>
          <a:xfrm>
            <a:off x="0" y="3606840"/>
            <a:ext cx="338292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ак да се държим с порастналите си деца?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3276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ключете ги в разрешаването на семейните проблеми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чете се от грешките си и не ги повтаряйте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CJX50285" descr=""/>
          <p:cNvPicPr/>
          <p:nvPr/>
        </p:nvPicPr>
        <p:blipFill>
          <a:blip r:embed="rId1"/>
          <a:stretch/>
        </p:blipFill>
        <p:spPr>
          <a:xfrm>
            <a:off x="6629400" y="2784600"/>
            <a:ext cx="251460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Разбити семейства- нещастни деца.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CIZ50139" descr=""/>
          <p:cNvPicPr/>
          <p:nvPr/>
        </p:nvPicPr>
        <p:blipFill>
          <a:blip r:embed="rId1"/>
          <a:stretch/>
        </p:blipFill>
        <p:spPr>
          <a:xfrm>
            <a:off x="2743200" y="3581280"/>
            <a:ext cx="320832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85840" y="2895120"/>
            <a:ext cx="5257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На всеки три деца в САЩ, едно не живее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 двамата си родители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CJE00029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197460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Колкото по-малки са децата по времето на развода, толкова последиците върху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тях са по-лоши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CJE00001" descr=""/>
          <p:cNvPicPr/>
          <p:nvPr/>
        </p:nvPicPr>
        <p:blipFill>
          <a:blip r:embed="rId1"/>
          <a:stretch/>
        </p:blipFill>
        <p:spPr>
          <a:xfrm>
            <a:off x="7086600" y="1662120"/>
            <a:ext cx="169056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Децата са наследство от Бога и ние сме отговорни пред Него за начина, по който се отнасяме с Неговата собственост.”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10080" y="5410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дв. до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CGA00525" descr=""/>
          <p:cNvPicPr/>
          <p:nvPr/>
        </p:nvPicPr>
        <p:blipFill>
          <a:blip r:embed="rId1"/>
          <a:stretch/>
        </p:blipFill>
        <p:spPr>
          <a:xfrm>
            <a:off x="7662960" y="4267080"/>
            <a:ext cx="148104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2819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Най-голямата нужда на вашето дете е не толкова двама родители, които го обичат, а двама родители, които СЕ обичат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CJE00016" descr=""/>
          <p:cNvPicPr/>
          <p:nvPr/>
        </p:nvPicPr>
        <p:blipFill>
          <a:blip r:embed="rId1"/>
          <a:stretch/>
        </p:blipFill>
        <p:spPr>
          <a:xfrm>
            <a:off x="6667560" y="4608360"/>
            <a:ext cx="247644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2819160"/>
            <a:ext cx="7391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Родителите могат да разберат, че ако  следват Божиите съвети за възпитаване на децата си, те ще получат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помощ отгоре.”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76920" y="502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дв. до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CJE00317" descr=""/>
          <p:cNvPicPr/>
          <p:nvPr/>
        </p:nvPicPr>
        <p:blipFill>
          <a:blip r:embed="rId1"/>
          <a:stretch/>
        </p:blipFill>
        <p:spPr>
          <a:xfrm>
            <a:off x="7307280" y="4037040"/>
            <a:ext cx="183672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ие прекарваме години в усвояване професия за живота, а навлизаме в семейни взаимоотношения без почти никаква подготовка.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IY50008" descr=""/>
          <p:cNvPicPr/>
          <p:nvPr/>
        </p:nvPicPr>
        <p:blipFill>
          <a:blip r:embed="rId1"/>
          <a:stretch/>
        </p:blipFill>
        <p:spPr>
          <a:xfrm>
            <a:off x="5707080" y="4616280"/>
            <a:ext cx="34369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609840" y="1752120"/>
            <a:ext cx="10591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Мечтите за семейно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блаженство се стопяват: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480" y="38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 раждане на децат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 израстването им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JE00061" descr=""/>
          <p:cNvPicPr/>
          <p:nvPr/>
        </p:nvPicPr>
        <p:blipFill>
          <a:blip r:embed="rId1"/>
          <a:stretch/>
        </p:blipFill>
        <p:spPr>
          <a:xfrm>
            <a:off x="6446880" y="4595760"/>
            <a:ext cx="26971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Как децата намаляват семейното блаженство?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 усложняват взаимоотношенията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Webdings" charset="2"/>
              <a:buChar char="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емейните задължения се увеличават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JE00035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3372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2895120"/>
            <a:ext cx="74674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За добре подготвените родители децата са най-богат източник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на удоволствие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в семейството.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JE00127" descr=""/>
          <p:cNvPicPr/>
          <p:nvPr/>
        </p:nvPicPr>
        <p:blipFill>
          <a:blip r:embed="rId1"/>
          <a:stretch/>
        </p:blipFill>
        <p:spPr>
          <a:xfrm>
            <a:off x="6611760" y="3268800"/>
            <a:ext cx="253224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Ролята на мъжа в семейството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CKB00901" descr=""/>
          <p:cNvPicPr/>
          <p:nvPr/>
        </p:nvPicPr>
        <p:blipFill>
          <a:blip r:embed="rId1"/>
          <a:stretch/>
        </p:blipFill>
        <p:spPr>
          <a:xfrm>
            <a:off x="990720" y="3733920"/>
            <a:ext cx="163656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Добрият баща първо е добър съпруг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IY00221" descr=""/>
          <p:cNvPicPr/>
          <p:nvPr/>
        </p:nvPicPr>
        <p:blipFill>
          <a:blip r:embed="rId1"/>
          <a:stretch/>
        </p:blipFill>
        <p:spPr>
          <a:xfrm>
            <a:off x="5624640" y="4032360"/>
            <a:ext cx="3519360" cy="28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99"/>
            </a:gs>
            <a:gs pos="50000">
              <a:srgbClr val="99ff99"/>
            </a:gs>
            <a:gs pos="100000">
              <a:srgbClr val="00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99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Мъже, любете жените си …”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4572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Еф. 5: 2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IY00033" descr=""/>
          <p:cNvPicPr/>
          <p:nvPr/>
        </p:nvPicPr>
        <p:blipFill>
          <a:blip r:embed="rId1"/>
          <a:stretch/>
        </p:blipFill>
        <p:spPr>
          <a:xfrm>
            <a:off x="380880" y="3886200"/>
            <a:ext cx="343692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30T03:49:50Z</dcterms:created>
  <dc:creator>Pacific Health</dc:creator>
  <dc:description/>
  <dc:language>en-US</dc:language>
  <cp:lastModifiedBy>Pacific Health</cp:lastModifiedBy>
  <dcterms:modified xsi:type="dcterms:W3CDTF">1998-12-09T09:08:35Z</dcterms:modified>
  <cp:revision>6</cp:revision>
  <dc:subject/>
  <dc:title>No Slide Title</dc:title>
</cp:coreProperties>
</file>